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5124-692E-48D6-8CFC-E7E3D0292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1A3F-FB6B-497F-BDD5-5E5F925A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B7BD-DF48-4801-B0BA-7326D7EB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5A2A-8F79-468C-981E-D4F34A8C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7655-663F-4266-B345-4616C817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6ADF-E7B2-4325-A299-5D0589AD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5286-05C6-4344-8DE5-AABD0CC6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58F0-5C0F-4503-AE86-F6CFEFD3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4566-985C-4872-8DC9-F4BF25FC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BA14-F4DE-48C9-95DA-7A18B011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258E-A829-4BB6-AC5F-C5E0FBB0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583C-9FD2-47C1-8BB3-D08D9291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FCC6-1097-4E83-B37C-3F4F3F8F1275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Impacts Of Tourism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Advantages And Disad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Positive Vs Nega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uris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as both positive and negative impacts for an are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both the United Kingdom and in countries in the developing world tourism has been the catalyst for economic growt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LEDC's rely on tourism as their principle industry so much that when a problem occurs they have to work very quickly to rectify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Positive Vs Nega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instance when a hurricane hit Fiji in 1998, the tourist industry, their main source of income, was badly h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thing that money was used to repair was all the hotels and their tourist facilities so that business did not lose out too muc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locals even produced T-shirts the next day saying how they had survived the hurrica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Advantages Of Tour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urism brings much needed investment into an are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it is an LEDC, the foreign currency is very important to the local peop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urism provides employment for many local people, ranging from working in the hotels to selling trinkets on the beach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ithout the tourist industry some less developed countries would have a much greater unemployment proble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Advantages Of Tour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ney that tourism brings in can be used to improve the infrastructure of the are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roads, airports and facilities can be built, which cater for the increasing number of tourists, but also benefit the local resid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ome from tourism may be used to help conserve the natural environment that is the reason why visitors come in the first pl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Advantages Of Tour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country can benefit from overseas investment, primarily in the tourist industry, but also in other related industries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ourism may help to preserve local cultures and communities, as they become a tourist attraction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s is certainly the case with some Masai tribes in Kenya and Maori's in New Zealand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Both use the visitor's interest and curiosity in their culture to become a tourist attraction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Disadvantages Of Tour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ny resorts in LEDC's very little of the money paid for the holiday actually reaches the countr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oliday company, travel agents, airlines and hotel companies swallow most of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jobs for the locals are often badly paid, with very poor working condi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Disadvantages Of Tour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huge number of tourists coming to see it could easily damage the environment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t is very easy for a country to see the short-term economic gains of mass tourism without really taking heed of the long-term environmental damage going on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ncreasing numbers of tourists brings problems such as littering, pollution and footpath erosion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All of these take time and money to clear up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Disadvantages Of Tour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seas investment, in things like luxury hotels, can mean that the money goes back to the country of origi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hotels may also take trade away from local guesthouses and hot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cultures could be devalued by tourism. They may almost become a freak show, where the visitors begin to look down on the locals as differ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1:12:56Z</dcterms:created>
  <dc:creator>Dell_02</dc:creator>
  <dc:description/>
  <dc:language>en-US</dc:language>
  <cp:lastModifiedBy>Dell_02</cp:lastModifiedBy>
  <dcterms:modified xsi:type="dcterms:W3CDTF">2011-01-27T01:18:32Z</dcterms:modified>
  <cp:revision>1</cp:revision>
  <dc:subject/>
  <dc:title>Impacts Of Tourism</dc:title>
</cp:coreProperties>
</file>